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0D8-2C55-42BF-AA17-42C1034B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E38-9459-44F5-A21C-9FD007E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537-E96E-4D9B-A644-3BB2A62D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84C-CA45-447C-83CC-41EB7C2B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E14-5F4F-4249-9B08-9CE61CD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C42-91BD-4524-B4D1-6F9DCDC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BD9-6350-48DF-83C8-A7318ED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102-571E-4DC4-98DC-426FF26A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21E-3474-4A27-9E21-41D54825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927-F564-40E2-A932-9FD12C0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B7D-2069-4A43-BE8D-22C80B8C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7D7-44CF-49E7-83B0-0AE234D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6A6-BC5B-4FC6-A5AD-545F5965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tels.lonelyplanet.com/puerto-rico/dorado-r1974497/hyatt-hacienda-del-mar-q2323744/?SearchDetails=L!10000!!-1!1974497!!!-1!-1!-1!-1!!!!57.59.27.4.52!!!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Ultra Bold Condensed"/>
              </a:rPr>
              <a:t>Mis vacaciones en Puerto R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By: Meera P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Madre y Pad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Cómo estan ustedes? Hace mucho calor. El hotel es muy grande y muy bueno. La playa es increíble y la piscina es grande también. La cama es comóda y la silla también. Mis amigos están emocion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Un abrazo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Me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Exterio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4343400"/>
            <a:ext cx="184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Kaitly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No llevé mi toalla playera. Ahora, tengo que comprar una. Hay tantas para eligir. También me olvide mi crema protect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Un ab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Me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4267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El agua es muy fría aquí.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Hoy, buceé en la playa. Tomé el sol. Después me senté en mi toalla playera. Escuché mi ipod. No practiqué la tabla hawa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Diver swimming under a coral ledge in Blue Reef."/>
          <p:cNvPicPr/>
          <p:nvPr/>
        </p:nvPicPr>
        <p:blipFill>
          <a:blip r:embed="rId2"/>
          <a:stretch/>
        </p:blipFill>
        <p:spPr>
          <a:xfrm>
            <a:off x="3276720" y="4648320"/>
            <a:ext cx="2895480" cy="201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3880" y="167652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752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049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 Condensed"/>
              </a:rPr>
              <a:t>Querida Señora Rous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Bell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oy fui a la isla de Vieques. El sol bahia tiene caballos hermosos. Después, jugué al tenis. Luego fuimos al centro comercial. Fue muy divert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eautiful Blue Beach and Isla de la Chiva on vieuques island"/>
          <p:cNvPicPr/>
          <p:nvPr/>
        </p:nvPicPr>
        <p:blipFill>
          <a:blip r:embed="rId2"/>
          <a:stretch/>
        </p:blipFill>
        <p:spPr>
          <a:xfrm>
            <a:off x="609480" y="3733920"/>
            <a:ext cx="3714840" cy="279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bouganvilla in Isabel Segunda"/>
          <p:cNvPicPr/>
          <p:nvPr/>
        </p:nvPicPr>
        <p:blipFill>
          <a:blip r:embed="rId3"/>
          <a:stretch/>
        </p:blipFill>
        <p:spPr>
          <a:xfrm>
            <a:off x="4952880" y="434340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eastern puerto rico and vieques satellite photo"/>
          <p:cNvPicPr/>
          <p:nvPr/>
        </p:nvPicPr>
        <p:blipFill>
          <a:blip r:embed="rId4"/>
          <a:stretch/>
        </p:blipFill>
        <p:spPr>
          <a:xfrm>
            <a:off x="6324480" y="4800600"/>
            <a:ext cx="2152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Madre y Pad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ay mucha ropa. También compré mucha de ropa. Hoy es mi último día aquí. Fui tengo muy diversión. Te tengo algunas c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asta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43434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11:56Z</dcterms:created>
  <dc:creator>patelmee</dc:creator>
  <dc:description/>
  <dc:language>en-US</dc:language>
  <cp:lastModifiedBy>patelmee</cp:lastModifiedBy>
  <dcterms:modified xsi:type="dcterms:W3CDTF">2011-12-01T19:08:33Z</dcterms:modified>
  <cp:revision>8</cp:revision>
  <dc:subject/>
  <dc:title>Mi vacaciones en Puerto Rico</dc:title>
</cp:coreProperties>
</file>